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43F-CFC6-4B20-8109-BED6A9AF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C84-444C-47E5-8914-C02222A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FDE-F206-418D-B3EA-C032B9BA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6E0-DDDC-43C7-81B2-4D9F372A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D6A-8885-406F-BE45-0C247F94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8B4-BE20-4D46-87E6-A1DA6B2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099-8B62-4869-BA94-50D8914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04B-87D5-4ED7-BF11-DA9A39DC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5D4-8D37-4134-8A7D-6978580B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7F8-9F8F-4F48-A6BB-D00C969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CB6-C0B0-4F6E-A9F3-02C0E26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548-21D0-4BC8-BDA5-6FF952E2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D8FA-D68B-4616-B732-4FE21136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382840"/>
            <a:ext cx="6858000" cy="67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8747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Broadway"/>
              </a:rPr>
              <a:t>Vitamin Wat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7620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ake your drink work for you. A rainbow of flavors that not only taste good but is good for   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d some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lor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o You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15:52Z</dcterms:created>
  <dc:creator>WPS</dc:creator>
  <dc:description/>
  <dc:language>en-US</dc:language>
  <cp:lastModifiedBy>WPS</cp:lastModifiedBy>
  <dcterms:modified xsi:type="dcterms:W3CDTF">2008-06-02T12:55:01Z</dcterms:modified>
  <cp:revision>4</cp:revision>
  <dc:subject/>
  <dc:title>Slide 1</dc:title>
</cp:coreProperties>
</file>